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6E1D4-EA8C-4C87-837F-3AB1F33EE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7EC7F-224D-4E80-8963-54ABBE350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F7527-DEE4-4841-BBB0-04586B3E8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EB002-FDB7-4BA4-AAB9-96B4C8E6B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C1E6A-C71D-42DD-9CC8-1DE4816E5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30232-E6CE-4973-B5F3-7C2394A42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4A048-0C9F-4897-8B71-5631741C2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BB89E-2A88-4045-89D2-C4FE2EB98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66F0F-62AD-4F45-A0A3-20B50AF9A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551BB-9653-4370-BFF1-36B73C052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E9057-9024-4454-A8F7-41F65648E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087C7-CDD1-4344-9D61-6A91B5DDD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9059-002D-4B59-A4C5-3F842376BA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url?sa=i&amp;rct=j&amp;q=where%20do%20the%20maori%20people%20live&amp;source=images&amp;cd=&amp;cad=rja&amp;docid=45TYp1T41_i5MM&amp;tbnid=fhjmYggDcNzhpM:&amp;ved=0CAUQjRw&amp;url=http%3A%2F%2Fwww.stats.govt.nz%2Fbrowse_for_stats%2Fpeople_and_communities%2Fmaori%2Fcensus-snapshot-maori.aspx&amp;ei=v0S6UZH-K8jQkwXPg4HQDA&amp;bvm=bv.47883778,d.aGc&amp;psig=AFQjCNH2leN_PufxIY1DkLg2MUWUe2-5ZQ&amp;ust=1371248181338906"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cc"/>
                </a:solidFill>
                <a:latin typeface="Arial"/>
              </a:rPr>
              <a:t>By Jehaan and Jasmine</a:t>
            </a:r>
            <a:endParaRPr b="0" lang="en-US" sz="3200" spc="-1" strike="noStrike">
              <a:solidFill>
                <a:srgbClr val="000000"/>
              </a:solidFill>
              <a:latin typeface="Arial"/>
            </a:endParaRPr>
          </a:p>
        </p:txBody>
      </p:sp>
      <p:sp>
        <p:nvSpPr>
          <p:cNvPr id="43" name=""/>
          <p:cNvSpPr/>
          <p:nvPr/>
        </p:nvSpPr>
        <p:spPr>
          <a:xfrm>
            <a:off x="1359000" y="4089240"/>
            <a:ext cx="4941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4" name=""/>
          <p:cNvSpPr txBox="1"/>
          <p:nvPr/>
        </p:nvSpPr>
        <p:spPr>
          <a:xfrm>
            <a:off x="1332000" y="2565360"/>
            <a:ext cx="61624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here did maori people live in nz</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Maori are the indigenous people of New Zealand. </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cc"/>
                </a:solidFill>
                <a:latin typeface="Arial"/>
              </a:rPr>
              <a:t>They are descendants of the Polynesian explorers who first settled the islands of New Zealand who came from an area of the Pacific known as Hawaiki.</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cc"/>
                </a:solidFill>
                <a:latin typeface="Arial"/>
              </a:rPr>
              <a:t>Throughout history, the Mäori population has been concentrated in the North Island. In 1996, 87.5 percent of the Mäori population lived in the North Island. Over half of this group lived in either Auckland, Waikato or the Bay of Plenty regional council areas.</a:t>
            </a:r>
            <a:endParaRPr b="0" lang="en-US" sz="3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cc"/>
                </a:solidFill>
                <a:latin typeface="Arial"/>
              </a:rPr>
              <a:t>This is a picture of the different types of tribes who lived in different   towns.</a:t>
            </a:r>
            <a:endParaRPr b="0" lang="en-US" sz="4000" spc="-1" strike="noStrike">
              <a:solidFill>
                <a:srgbClr val="000000"/>
              </a:solidFill>
              <a:latin typeface="Arial"/>
            </a:endParaRPr>
          </a:p>
        </p:txBody>
      </p:sp>
      <p:sp>
        <p:nvSpPr>
          <p:cNvPr id="5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a:hlinkClick r:id="rId2"/>
          </p:cNvPr>
          <p:cNvPicPr/>
          <p:nvPr/>
        </p:nvPicPr>
        <p:blipFill>
          <a:blip r:embed="rId3"/>
          <a:stretch/>
        </p:blipFill>
        <p:spPr>
          <a:xfrm>
            <a:off x="3059280" y="2205000"/>
            <a:ext cx="3447720" cy="42958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cc"/>
                </a:solidFill>
                <a:latin typeface="Arial"/>
              </a:rPr>
              <a:t>Thank you for watching our sh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cc"/>
                </a:solidFill>
                <a:latin typeface="Arial"/>
              </a:rPr>
              <a:t>Goodby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3419640" y="2492280"/>
            <a:ext cx="1701720" cy="18590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21:57:37Z</dcterms:created>
  <dc:creator>5d29</dc:creator>
  <dc:description/>
  <dc:language>en-US</dc:language>
  <cp:lastModifiedBy>5d19</cp:lastModifiedBy>
  <dcterms:modified xsi:type="dcterms:W3CDTF">2013-06-14T02:05:30Z</dcterms:modified>
  <cp:revision>3</cp:revision>
  <dc:subject/>
  <dc:title>Where did Maori live in New Zealand?</dc:title>
</cp:coreProperties>
</file>